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EF01-E773-402D-8D8A-BE7C39C58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D128-F554-4E81-9DBA-E079B52E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87A7-A233-463B-A274-597E72D9C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102A-7669-47B7-A78B-D76DF7285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A2E3-3B84-4717-B94F-64960922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15ED-8806-4462-9F89-4B4296E4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A486-D4B8-49BF-A2B2-66671B86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1798-369C-4F19-BC44-F015E77A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D896-BFEC-40D8-92A6-5127DF97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3DE4-2112-4417-9BD3-46648A2C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2A07-BB65-4F3D-BB4E-C175B155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A210-02B8-4E7F-BA10-23BED699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F51A-2D03-4072-8064-BA29ABD69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ootlight MT Light"/>
              </a:rPr>
              <a:t>Western Dra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876920" y="129492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Element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Earth and Wat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Descriptio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Created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from parts of various creatures, having eagle's feet, two bat-like wings, lion's forelimbs, reptile’s head, fish's scales, antelope's horns and a serpentine form of spade tail.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Ca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be any colour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-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some can change colour.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Usually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breathe fir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Power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Hav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huge hoards of gold and jewels hidden in their lairs.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Know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to live more than 300 years; some are even immortal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Magic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Eating dragons' heart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gives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power of understanding the language of animals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. Rubbing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dragons' blood on skin protect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against stabs.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906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27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ootlight MT Light"/>
              </a:rPr>
              <a:t>Oriental Dra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1295280"/>
            <a:ext cx="4038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Element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Water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and Win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Descriptio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Ar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made up of the body of a snake, scales of a carp, head of a camel, horns of a deer, the eyes of a hare, a neck like an iguana, belly of a frog, paws like a tigers, claws like an eagle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,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lion-type mane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o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its neck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and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chin.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Found i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blue, black, white, red,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gree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or yellow.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Do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not usually breath fire, nor do they fly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Power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Influence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weather and water courses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Types: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Ar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classified according to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th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number of claws. Most five clawed dragons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-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Chinese. Three clawed dragons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-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Japanese. Four clawed dragons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-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Chinese, Indonesian or Korean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06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27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  <p:pic>
        <p:nvPicPr>
          <p:cNvPr id="49" name="Oriental%20Dragon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ootlight MT Light"/>
              </a:rPr>
              <a:t>Firedra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76920" y="1295280"/>
            <a:ext cx="4038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Element: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Earth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and Fi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Descriptio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de-DE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Have a long tail with small black spikes from th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tail to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th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torso.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Hav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a medium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-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length snout with its nostrils rising slightly over the end of the snout.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Scale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are fairly hard and are difficult to penetrate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. Ha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strong wings and can move very swiftly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. Use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its tail and claws to attack its prey but can also breathe fire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. Are reddish in colour and live to around 150 years of ag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Power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They often live in caves and guard great treasure.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Breath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fire to defend themselv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Origi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Germany and Fran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Famous: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Wiglaf, the firedrake killed by Beowulf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906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27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  <p:pic>
        <p:nvPicPr>
          <p:cNvPr id="54" name="mtg-firedrake-main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49568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Wyv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295280"/>
            <a:ext cx="4038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Element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Earth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Descriptio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Two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-legged dragon with two wings, a serpent’s head and the claws of an eagle. May have claws on the wings and a sting filled with poison on the end of its tail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Powers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Has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poisonous and corrupt breath.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Quick and powerful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Origi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Mountain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of central Europe and Sweden 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.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Famou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Marco Polo met and described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Wyver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while crossing Central Asia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Also Known As</a:t>
            </a: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Wyver, Lindworm, Lindorm, Wouive, Vouiv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906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27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  <p:pic>
        <p:nvPicPr>
          <p:cNvPr id="59" name="lindwurm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486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Ourobouros</a:t>
            </a:r>
            <a:r>
              <a:rPr b="1" lang="en-AU" sz="4400" spc="-1" strike="noStrike">
                <a:solidFill>
                  <a:srgbClr val="000000"/>
                </a:solidFill>
                <a:latin typeface="Footlight MT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76920" y="1295280"/>
            <a:ext cx="4038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Element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</a:t>
            </a:r>
            <a:r>
              <a:rPr b="1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Earth and Wat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Descriptio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A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serpent endlessly eats his own tail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Powers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Constantly renews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its skin and vigour,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symbolising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continued youth and eternity.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The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O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uroboros eats its own tail to sustain its life, in an eternal cycle of renewal. It is also an emblem of immortality.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Keep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the cosmic waters under control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Origi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Egypt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,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Phoenicia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and Greec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Also Known A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O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roborus,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U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roboros, and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O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ureboros.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906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27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190600" y="13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41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ootlight MT Light"/>
              </a:rPr>
              <a:t>Drago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76920" y="1295280"/>
            <a:ext cx="4038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Element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Earth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Descriptio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mall dragons less than 1.5 m high but very fierce and hostile to human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Powers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Has poisonous blood and exhales deadly fiery breath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Origin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Switzerland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Famou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Th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dragons of Wilser who lived on the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Mount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Pilate (Switzerland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).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Was eventually killed by an exiled towns member named Winckelriedt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, who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went up to the cave and fought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the dragonet.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Winckelriedt saw an opening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to strik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when the dragonet allowed him to get too close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906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27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662200" y="104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47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ootlight MT Light"/>
              </a:rPr>
              <a:t>Icedra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1295280"/>
            <a:ext cx="4038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Element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Wat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Descriptio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Have wings but do not fly- 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can rear up on its hind legs, using its tail to balance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. Look like large lizards and are between 5-20 metres long. Are usually while or light blue in colour with greyish scales and red eyes. Live to around 150 years of age. Ar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 fond of treasure and often guard large hoards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Powers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Exhales snow and hail rather than poison or fire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Origin</a:t>
            </a:r>
            <a:r>
              <a:rPr b="0" lang="en-AU" sz="1900" spc="-1" strike="noStrike">
                <a:solidFill>
                  <a:srgbClr val="000000"/>
                </a:solidFill>
                <a:latin typeface="Footlight MT Light"/>
                <a:ea typeface="Times New Roman"/>
              </a:rPr>
              <a:t>: North America, Norway, Sweden, Finland and north-eastern regions of Russi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906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27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68596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dragon-pictures-076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495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ootlight MT Light"/>
              </a:rPr>
              <a:t>Types of Dra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320" y="21337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Earth one of the Element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22096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3048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320" y="36576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it exhale snow and hai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4343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4556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09680" y="3809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81080" y="44197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cedra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1814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iental Drag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195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71800" y="21337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it breathe fi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00600" y="2209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780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30481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988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3657600"/>
            <a:ext cx="24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it symbolise continued youth and eternit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86200" y="457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57600" y="4800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86200" y="518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4100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yv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7692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05520" y="3809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1008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44197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urobou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10080" y="21337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it originate in Switzerlan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3888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67480" y="2209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153280" y="2438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96080" y="2590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rago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7712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048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3657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it known to live more than 300 year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92468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01000" y="39765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229600" y="37479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4582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848720" y="43434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stern Drag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81680" y="428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53080" y="45100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78168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67280" y="51055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redra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ootlight MT Light"/>
              </a:rPr>
              <a:t>Types of Dra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1337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Earth one of the Element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0" y="2209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30481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6576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it exhale snow and hai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4343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55616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0512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809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3828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00200" y="4419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51814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4320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21337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it breathe fi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2209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3392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3048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3392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65760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it symbolise continued youth and eternit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9880" y="457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81280" y="48006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9880" y="518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0060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29200" y="3809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412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4120" y="21337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it originate in Switzerlan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91520" y="22096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2438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0080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72200" y="3048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008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86400" y="3657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it known to live more than 300 year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487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924680" y="39765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153280" y="37479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188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28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77120" y="45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0572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54244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419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791320" y="5181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238880" y="43434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86600" y="26668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01:40:14Z</dcterms:created>
  <dc:creator>Elizabeth Everett</dc:creator>
  <dc:description/>
  <dc:language>en-US</dc:language>
  <cp:lastModifiedBy>Elizabeth Everett</cp:lastModifiedBy>
  <dcterms:modified xsi:type="dcterms:W3CDTF">2009-04-23T09:29:36Z</dcterms:modified>
  <cp:revision>16</cp:revision>
  <dc:subject/>
  <dc:title>Western Dragon</dc:title>
</cp:coreProperties>
</file>