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187-55F7-469F-A956-2D3234C8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318-1E6D-4AA4-8FF4-C59974A7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1D7-3688-432C-9615-9FBA28D9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E00-71B7-4DDB-95AA-FCAA3A12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AA4-051F-4E01-8BC7-32866987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B2D-8FD1-4CA5-B81A-3FF5BB3F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19F-ED12-40E7-BA74-96619529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C98-05F1-413F-9990-83E81C0C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BE2-D886-4376-8619-E254E1D1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0D2-D157-4F7B-B5C4-6BD1357F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D4F-1202-48EE-97BE-15DDAF88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433-9EAD-4EAB-97F7-681471A1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398C-0FFD-424B-ABF5-F13FC17CF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Western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7692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 and 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reated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rom parts of various creatures, having eagle's feet, two bat-like wings, lion's forelimbs, reptile’s head, fish's scales, antelope's horns and a serpentine form of spade tail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a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e any colour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ome can change colour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sually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reathe fir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huge hoards of gold and jewels hidden in their lairs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Know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 live more than 300 years; some are even immort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agic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ting dragons' hear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give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 of understanding the language of animal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Rubbing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dragons' blood on skin protec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gainst stabs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Oriental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Water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Wi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made up of the body of a snake, scales of a carp, head of a camel, horns of a deer, the eyes of a hare, a neck like an iguana, belly of a frog, paws like a tigers, claws like an eagl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lion-type man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its neck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hin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ound 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lue, black, white, red,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gree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or yellow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not usually breath fire, nor do they fl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Influenc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eather and water course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ypes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lassified according to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number of claws. Most five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hinese. Three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Japanese. Four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hinese, Indonesian or Korean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49" name="Oriental%20Dragon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Firedr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Earth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Fi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de-DE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 a long tail with small black spikes from 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ail to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rso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 medium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length snout with its nostrils rising slightly over the end of the snout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cal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re fairly hard and are difficult to penetrat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Ha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trong wings and can move very swiftly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Us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its tail and claws to attack its prey but can also breathe fir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Are reddish in colour and live to around 150 years of ag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They often live in caves and guard great treasure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Brea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ire to defend themselv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Germany and Fra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: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iglaf, the firedrake killed by Beowu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54" name="mtg-firedrake-main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yv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w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legged dragon with two wings, a serpent’s head and the claws of an eagle. May have claws on the wings and a sting filled with poison on the end of its tai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Ha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isonous and corrupt breath.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Quick and powerfu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ountain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of central Europe and Sweden 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Marco Polo met and described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yver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hile crossing Central Asi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lso Known As</a:t>
            </a: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yver, Lindworm, Lindorm, Wouive, Vouiv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lindwurm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8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urobouros</a:t>
            </a:r>
            <a:r>
              <a:rPr b="1" lang="en-AU" sz="44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arth and 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erpent endlessly eats his own tai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Constantly renew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its skin and vigour,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ymbolising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ontinued youth and eternity.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roboros eats its own tail to sustain its life, in an eternal cycle of renewal. It is also an emblem of immortality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Keep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he cosmic waters under control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gyp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hoenicia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nd Greec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lso Known A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roborus,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roboros, and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reboros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906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41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Drago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all dragons less than 1.5 m high but very fierce and hostile to human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Has poisonous blood and exhales deadly fiery breath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Switzerl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dragons of Wilser who lived on th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ou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Pilate (Switzerland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).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as eventually killed by an exiled towns member named Winckelried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who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ent up to the cave and fough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he dragonet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inckelriedt saw an opening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 strik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hen the dragonet allowed him to get too close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66220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47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Icedr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Have wings but do not fly-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an rear up on its hind legs, using its tail to balanc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Look like large lizards and are between 5-20 metres long. Are usually while or light blue in colour with greyish scales and red eyes. Live to around 150 years of age. 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ond of treasure and often guard large hoard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xhales snow and hail rather than poison or fi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North America, Norway, Sweden, Finland and north-eastern regions of Russ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8596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dragon-pictures-076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Types of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Earth one of the Eleme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209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3657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exhale snow and hai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556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cedr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iental Dr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213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breathe fi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048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36576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symbolise continued youth and etern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410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yv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3809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robo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2133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originate in Switzerla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5328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2590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go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known to live more than 300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24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3976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3747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4343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stern Dr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2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5100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816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5105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edr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Types of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Earth one of the Eleme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048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657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exhale snow and hai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5561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809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4419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13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breathe fi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6576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symbolise continued youth and etern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21337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originate in Switzerla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91520" y="2209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known to live more than 300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24680" y="3976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53280" y="3747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18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2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45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5424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419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5181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4343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1:40:14Z</dcterms:created>
  <dc:creator>Elizabeth Everett</dc:creator>
  <dc:description/>
  <dc:language>en-US</dc:language>
  <cp:lastModifiedBy>Elizabeth Everett</cp:lastModifiedBy>
  <dcterms:modified xsi:type="dcterms:W3CDTF">2009-04-23T09:29:36Z</dcterms:modified>
  <cp:revision>16</cp:revision>
  <dc:subject/>
  <dc:title>Western Dragon</dc:title>
</cp:coreProperties>
</file>