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72288" cy="100615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B619D-4AC4-4228-9992-B8EE035FD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45558-5B3D-44FB-80FD-42D42F011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BBF9E-A6C0-4787-BB9A-B6A129B3D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32CB0-90A4-4721-B368-7C9044617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6723E-03A0-428D-8023-974CBCB9C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7D1CB-CB78-43D5-8593-F3E023BBA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6970F-87B2-45B1-9DD2-D7E6B39D1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7BE66-B850-428E-9454-B31260E3F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F3604-50D0-41BB-BB70-656BD975E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65CE5-5E27-4894-9DC7-154CAD4B7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A2347-4389-4981-B5DD-EB13E7CEB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CE88F-75D0-480E-B59B-0A59711D0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5092A-8F26-45CB-9D3B-95AAB91C18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Footlight MT Light"/>
              </a:rPr>
              <a:t>Western Drag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876920" y="1294920"/>
            <a:ext cx="4038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Element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: Earth and Wate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Description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: </a:t>
            </a:r>
            <a:r>
              <a:rPr b="0" lang="en-US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Created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 from parts of various creatures, having eagle's feet, two bat-like wings, lion's forelimbs, reptile’s head, fish's scales, antelope's horns and a serpentine form of spade tail. </a:t>
            </a:r>
            <a:r>
              <a:rPr b="0" lang="en-US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Can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 be any colour</a:t>
            </a:r>
            <a:r>
              <a:rPr b="0" lang="en-US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-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 some can change colour. </a:t>
            </a:r>
            <a:r>
              <a:rPr b="0" lang="en-US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Usually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 breathe fire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Powers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: </a:t>
            </a:r>
            <a:r>
              <a:rPr b="0" lang="en-US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Have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 huge hoards of gold and jewels hidden in their lairs. </a:t>
            </a:r>
            <a:r>
              <a:rPr b="0" lang="en-US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Known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 to live more than 300 years; some are even immortal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Magic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: Eating dragons' heart</a:t>
            </a:r>
            <a:r>
              <a:rPr b="0" lang="en-US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 gives 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power of understanding the language of animals</a:t>
            </a:r>
            <a:r>
              <a:rPr b="0" lang="en-US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. Rubbing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 dragons' blood on skin protect</a:t>
            </a:r>
            <a:r>
              <a:rPr b="0" lang="en-US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s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 against stabs.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190600" y="1747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Picture27" descr=""/>
          <p:cNvPicPr/>
          <p:nvPr/>
        </p:nvPicPr>
        <p:blipFill>
          <a:blip r:embed="rId1"/>
          <a:stretch/>
        </p:blipFill>
        <p:spPr>
          <a:xfrm>
            <a:off x="228600" y="1295280"/>
            <a:ext cx="44956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Footlight MT Light"/>
              </a:rPr>
              <a:t>Oriental Drag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876920" y="1295280"/>
            <a:ext cx="403848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Element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: Water</a:t>
            </a:r>
            <a:r>
              <a:rPr b="0" lang="en-US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 and Wind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Description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: </a:t>
            </a:r>
            <a:r>
              <a:rPr b="0" lang="en-US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Are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 made up of the body of a snake, scales of a carp, head of a camel, horns of a deer, the eyes of a hare, a neck like an iguana, belly of a frog, paws like a tigers, claws like an eagle</a:t>
            </a:r>
            <a:r>
              <a:rPr b="0" lang="en-US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, 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lion-type mane </a:t>
            </a:r>
            <a:r>
              <a:rPr b="0" lang="en-US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on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 its neck</a:t>
            </a:r>
            <a:r>
              <a:rPr b="0" lang="en-US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 and 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chin. </a:t>
            </a:r>
            <a:r>
              <a:rPr b="0" lang="en-US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Found in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 blue, black, white, red,</a:t>
            </a:r>
            <a:r>
              <a:rPr b="0" lang="en-US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 green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 or yellow. </a:t>
            </a:r>
            <a:r>
              <a:rPr b="0" lang="en-US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Do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 not usually breath fire, nor do they fly.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Powers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: </a:t>
            </a:r>
            <a:r>
              <a:rPr b="0" lang="en-US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Influences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 weather and water courses.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Types: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Are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 classified according to </a:t>
            </a:r>
            <a:r>
              <a:rPr b="0" lang="en-US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the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 number of claws. Most five clawed dragons</a:t>
            </a:r>
            <a:r>
              <a:rPr b="0" lang="en-US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-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 Chinese. Three clawed dragons</a:t>
            </a:r>
            <a:r>
              <a:rPr b="0" lang="en-US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-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 Japanese. Four clawed dragons</a:t>
            </a:r>
            <a:r>
              <a:rPr b="0" lang="en-US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-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 Chinese, Indonesian or Korean.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0600" y="1747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27" descr=""/>
          <p:cNvPicPr/>
          <p:nvPr/>
        </p:nvPicPr>
        <p:blipFill>
          <a:blip r:embed="rId1"/>
          <a:stretch/>
        </p:blipFill>
        <p:spPr>
          <a:xfrm>
            <a:off x="228600" y="1295280"/>
            <a:ext cx="4495680" cy="4800600"/>
          </a:xfrm>
          <a:prstGeom prst="rect">
            <a:avLst/>
          </a:prstGeom>
          <a:ln w="0">
            <a:noFill/>
          </a:ln>
        </p:spPr>
      </p:pic>
      <p:pic>
        <p:nvPicPr>
          <p:cNvPr id="49" name="Oriental%20Dragon" descr=""/>
          <p:cNvPicPr/>
          <p:nvPr/>
        </p:nvPicPr>
        <p:blipFill>
          <a:blip r:embed="rId2"/>
          <a:stretch/>
        </p:blipFill>
        <p:spPr>
          <a:xfrm>
            <a:off x="228600" y="1295280"/>
            <a:ext cx="44956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Footlight MT Light"/>
              </a:rPr>
              <a:t>Firedrak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876920" y="1295280"/>
            <a:ext cx="403848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Element: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 Earth</a:t>
            </a:r>
            <a:r>
              <a:rPr b="0" lang="en-US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 and Fir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Description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: </a:t>
            </a:r>
            <a:r>
              <a:rPr b="0" lang="de-DE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Have a long tail with small black spikes from the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 tail to </a:t>
            </a:r>
            <a:r>
              <a:rPr b="0" lang="en-US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the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 torso. </a:t>
            </a:r>
            <a:r>
              <a:rPr b="0" lang="en-US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Have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 a medium</a:t>
            </a:r>
            <a:r>
              <a:rPr b="0" lang="en-US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-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length snout with its nostrils rising slightly over the end of the snout. </a:t>
            </a:r>
            <a:r>
              <a:rPr b="0" lang="en-US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Scales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 are fairly hard and are difficult to penetrate</a:t>
            </a:r>
            <a:r>
              <a:rPr b="0" lang="en-US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. Has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 strong wings and can move very swiftly</a:t>
            </a:r>
            <a:r>
              <a:rPr b="0" lang="en-US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. Uses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 its tail and claws to attack its prey but can also breathe fire</a:t>
            </a:r>
            <a:r>
              <a:rPr b="0" lang="en-US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. Are reddish in colour and live to around 150 years of age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Powers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: They often live in caves and guard great treasure. </a:t>
            </a:r>
            <a:r>
              <a:rPr b="0" lang="en-US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Breathe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 fire to defend themselves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Origin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: Germany and Franc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Famous: 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Wiglaf, the firedrake killed by Beowulf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190600" y="1747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27" descr=""/>
          <p:cNvPicPr/>
          <p:nvPr/>
        </p:nvPicPr>
        <p:blipFill>
          <a:blip r:embed="rId1"/>
          <a:stretch/>
        </p:blipFill>
        <p:spPr>
          <a:xfrm>
            <a:off x="228600" y="1295280"/>
            <a:ext cx="4495680" cy="4800600"/>
          </a:xfrm>
          <a:prstGeom prst="rect">
            <a:avLst/>
          </a:prstGeom>
          <a:ln w="0">
            <a:noFill/>
          </a:ln>
        </p:spPr>
      </p:pic>
      <p:pic>
        <p:nvPicPr>
          <p:cNvPr id="54" name="mtg-firedrake-main" descr=""/>
          <p:cNvPicPr/>
          <p:nvPr/>
        </p:nvPicPr>
        <p:blipFill>
          <a:blip r:embed="rId2"/>
          <a:stretch/>
        </p:blipFill>
        <p:spPr>
          <a:xfrm>
            <a:off x="228600" y="1295280"/>
            <a:ext cx="4495680" cy="480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Wyver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295280"/>
            <a:ext cx="403848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Element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: Earth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Description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: </a:t>
            </a:r>
            <a:r>
              <a:rPr b="0" lang="en-US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Two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-legged dragon with two wings, a serpent’s head and the claws of an eagle. May have claws on the wings and a sting filled with poison on the end of its tail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Powers</a:t>
            </a:r>
            <a:r>
              <a:rPr b="0" lang="en-US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: Has 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poisonous and corrupt breath.</a:t>
            </a:r>
            <a:r>
              <a:rPr b="0" lang="en-US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 Quick and powerful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Origin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: </a:t>
            </a:r>
            <a:r>
              <a:rPr b="0" lang="en-US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Mountains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 of central Europe and Sweden </a:t>
            </a:r>
            <a:r>
              <a:rPr b="0" lang="en-US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.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 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Famous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: Marco Polo met and described </a:t>
            </a:r>
            <a:r>
              <a:rPr b="0" lang="en-US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Wyvern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 while crossing Central Asia.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Also Known As</a:t>
            </a:r>
            <a:r>
              <a:rPr b="1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: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 Wyver, Lindworm, Lindorm, Wouive, Vouivr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90600" y="1747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27" descr=""/>
          <p:cNvPicPr/>
          <p:nvPr/>
        </p:nvPicPr>
        <p:blipFill>
          <a:blip r:embed="rId1"/>
          <a:stretch/>
        </p:blipFill>
        <p:spPr>
          <a:xfrm>
            <a:off x="228600" y="1295280"/>
            <a:ext cx="4495680" cy="4800600"/>
          </a:xfrm>
          <a:prstGeom prst="rect">
            <a:avLst/>
          </a:prstGeom>
          <a:ln w="0">
            <a:noFill/>
          </a:ln>
        </p:spPr>
      </p:pic>
      <p:pic>
        <p:nvPicPr>
          <p:cNvPr id="59" name="lindwurm" descr=""/>
          <p:cNvPicPr/>
          <p:nvPr/>
        </p:nvPicPr>
        <p:blipFill>
          <a:blip r:embed="rId2"/>
          <a:stretch/>
        </p:blipFill>
        <p:spPr>
          <a:xfrm>
            <a:off x="228600" y="1295280"/>
            <a:ext cx="44863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Ourobouros</a:t>
            </a:r>
            <a:r>
              <a:rPr b="1" lang="en-AU" sz="4400" spc="-1" strike="noStrike">
                <a:solidFill>
                  <a:srgbClr val="000000"/>
                </a:solidFill>
                <a:latin typeface="Footlight MT Light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876920" y="1295280"/>
            <a:ext cx="403848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Element</a:t>
            </a:r>
            <a:r>
              <a:rPr b="0" lang="en-US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:</a:t>
            </a:r>
            <a:r>
              <a:rPr b="1" lang="en-US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Earth and Wate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Description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: </a:t>
            </a:r>
            <a:r>
              <a:rPr b="0" lang="en-US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A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 serpent endlessly eats his own tail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Powers</a:t>
            </a:r>
            <a:r>
              <a:rPr b="0" lang="en-US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: Constantly renews 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its skin and vigour, </a:t>
            </a:r>
            <a:r>
              <a:rPr b="0" lang="en-US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symbolising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 continued youth and eternity.</a:t>
            </a:r>
            <a:r>
              <a:rPr b="0" lang="en-US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 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The </a:t>
            </a:r>
            <a:r>
              <a:rPr b="0" lang="en-US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O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uroboros eats its own tail to sustain its life, in an eternal cycle of renewal. It is also an emblem of immortality. </a:t>
            </a:r>
            <a:r>
              <a:rPr b="0" lang="en-US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Keeps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 the cosmic waters under control</a:t>
            </a:r>
            <a:r>
              <a:rPr b="0" lang="en-US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Origin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: Egypt</a:t>
            </a:r>
            <a:r>
              <a:rPr b="0" lang="en-US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, 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Phoenicia </a:t>
            </a:r>
            <a:r>
              <a:rPr b="0" lang="en-US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and Greece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Also Known As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: </a:t>
            </a:r>
            <a:r>
              <a:rPr b="0" lang="en-US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O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roborus, </a:t>
            </a:r>
            <a:r>
              <a:rPr b="0" lang="en-US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U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roboros, and </a:t>
            </a:r>
            <a:r>
              <a:rPr b="0" lang="en-US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O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ureboros.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190600" y="1747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27" descr=""/>
          <p:cNvPicPr/>
          <p:nvPr/>
        </p:nvPicPr>
        <p:blipFill>
          <a:blip r:embed="rId1"/>
          <a:stretch/>
        </p:blipFill>
        <p:spPr>
          <a:xfrm>
            <a:off x="228600" y="1295280"/>
            <a:ext cx="4495680" cy="48006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2190600" y="13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41" descr=""/>
          <p:cNvPicPr/>
          <p:nvPr/>
        </p:nvPicPr>
        <p:blipFill>
          <a:blip r:embed="rId2"/>
          <a:stretch/>
        </p:blipFill>
        <p:spPr>
          <a:xfrm>
            <a:off x="228600" y="1295280"/>
            <a:ext cx="44956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Footlight MT Light"/>
              </a:rPr>
              <a:t>Drago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876920" y="1295280"/>
            <a:ext cx="403848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Element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: Earth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Description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: </a:t>
            </a:r>
            <a:r>
              <a:rPr b="0" lang="en-US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S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mall dragons less than 1.5 m high but very fierce and hostile to humans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Powers</a:t>
            </a:r>
            <a:r>
              <a:rPr b="0" lang="en-US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: Has poisonous blood and exhales deadly fiery breath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Origin</a:t>
            </a:r>
            <a:r>
              <a:rPr b="0" lang="en-US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: Switzerland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Famous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: </a:t>
            </a:r>
            <a:r>
              <a:rPr b="0" lang="en-US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The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 dragons of Wilser who lived on the </a:t>
            </a:r>
            <a:r>
              <a:rPr b="0" lang="en-US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Mount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 Pilate (Switzerland</a:t>
            </a:r>
            <a:r>
              <a:rPr b="0" lang="en-US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). 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Was eventually killed by an exiled towns member named Winckelriedt</a:t>
            </a:r>
            <a:r>
              <a:rPr b="0" lang="en-US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, who 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went up to the cave and fought</a:t>
            </a:r>
            <a:r>
              <a:rPr b="0" lang="en-US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 the dragonet.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Winckelriedt saw an opening</a:t>
            </a:r>
            <a:r>
              <a:rPr b="0" lang="en-US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 to strike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 when the dragonet allowed him to get too close.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190600" y="1747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27" descr=""/>
          <p:cNvPicPr/>
          <p:nvPr/>
        </p:nvPicPr>
        <p:blipFill>
          <a:blip r:embed="rId1"/>
          <a:stretch/>
        </p:blipFill>
        <p:spPr>
          <a:xfrm>
            <a:off x="228600" y="1295280"/>
            <a:ext cx="4495680" cy="48006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662200" y="1047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47" descr=""/>
          <p:cNvPicPr/>
          <p:nvPr/>
        </p:nvPicPr>
        <p:blipFill>
          <a:blip r:embed="rId2"/>
          <a:stretch/>
        </p:blipFill>
        <p:spPr>
          <a:xfrm>
            <a:off x="228600" y="1295280"/>
            <a:ext cx="44956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Footlight MT Light"/>
              </a:rPr>
              <a:t>Icedrak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876920" y="1295280"/>
            <a:ext cx="403848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Element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:</a:t>
            </a:r>
            <a:r>
              <a:rPr b="0" lang="en-US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 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Wate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Description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:</a:t>
            </a:r>
            <a:r>
              <a:rPr b="0" lang="en-US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 Have wings but do not fly- 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can rear up on its hind legs, using its tail to balance</a:t>
            </a:r>
            <a:r>
              <a:rPr b="0" lang="en-US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. Look like large lizards and are between 5-20 metres long. Are usually while or light blue in colour with greyish scales and red eyes. Live to around 150 years of age. Are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 fond of treasure and often guard large hoards</a:t>
            </a:r>
            <a:r>
              <a:rPr b="0" lang="en-US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Powers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: </a:t>
            </a:r>
            <a:r>
              <a:rPr b="0" lang="en-US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Exhales snow and hail rather than poison or fire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Origin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: North America, Norway, Sweden, Finland and north-eastern regions of Russia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190600" y="1747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27" descr=""/>
          <p:cNvPicPr/>
          <p:nvPr/>
        </p:nvPicPr>
        <p:blipFill>
          <a:blip r:embed="rId1"/>
          <a:stretch/>
        </p:blipFill>
        <p:spPr>
          <a:xfrm>
            <a:off x="228600" y="1295280"/>
            <a:ext cx="4495680" cy="48006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2685960" y="1652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dragon-pictures-076" descr=""/>
          <p:cNvPicPr/>
          <p:nvPr/>
        </p:nvPicPr>
        <p:blipFill>
          <a:blip r:embed="rId2"/>
          <a:stretch/>
        </p:blipFill>
        <p:spPr>
          <a:xfrm>
            <a:off x="228600" y="1295280"/>
            <a:ext cx="44956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68580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Footlight MT Light"/>
              </a:rPr>
              <a:t>Types of Drag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6320" y="213372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 Earth one of the Element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362320" y="220968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914400" y="3048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438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6320" y="36576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es it exhale snow and hail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143000" y="34290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143000" y="43434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914400" y="455616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143000" y="4952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981080" y="40384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209680" y="380988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514600" y="4191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981080" y="4419720"/>
            <a:ext cx="19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cedrak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1814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riental Drag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19520" y="2438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971800" y="213372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es it breathe fire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572000" y="2438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800600" y="220968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257800" y="2438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8098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581280" y="304812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09880" y="34290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666880" y="3657600"/>
            <a:ext cx="2438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es it symbolise continued youth and eternity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886200" y="45720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657600" y="48006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886200" y="5181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410080"/>
            <a:ext cx="19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Wyver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876920" y="40384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105520" y="380988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410080" y="4191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724280" y="4419720"/>
            <a:ext cx="19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urobour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410080" y="213372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es it originate in Switzerland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238880" y="2438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467480" y="220968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8153280" y="24382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696080" y="25909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rago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7712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048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77120" y="34290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562720" y="365760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 it known to live more than 300 year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924680" y="2438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001000" y="397656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229600" y="374796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8458200" y="41148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848720" y="4343400"/>
            <a:ext cx="12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Western Drag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781680" y="4281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553080" y="451008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781680" y="4876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867280" y="5105520"/>
            <a:ext cx="19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redrak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60948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Footlight MT Light"/>
              </a:rPr>
              <a:t>Types of Drag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213372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 Earth one of the Element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286000" y="220968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38080" y="304812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2438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365760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es it exhale snow and hail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34290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066680" y="43434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55616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066680" y="4952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905120" y="40384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80988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438280" y="4191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600200" y="441972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_______________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52280" y="51814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_______________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743200" y="2438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895480" y="213372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es it breathe fire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495680" y="2438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724280" y="220968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181480" y="2438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3392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505320" y="3048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733920" y="34290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590920" y="3657600"/>
            <a:ext cx="2438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es it symbolise continued youth and eternity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9880" y="45720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81280" y="480060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809880" y="5181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800600" y="40384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029200" y="380988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334120" y="4191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334120" y="2133720"/>
            <a:ext cx="190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es it originate in Switzerland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162920" y="2438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91520" y="220968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24382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40080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172200" y="3048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400800" y="34290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486400" y="365760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 it known to live more than 300 year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848720" y="2438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924680" y="397656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8153280" y="374796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8381880" y="41148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705720" y="4281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77120" y="45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705720" y="4876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5424480"/>
            <a:ext cx="19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_______________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41972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_______________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791320" y="518148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_______________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238880" y="4343400"/>
            <a:ext cx="19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_______________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086600" y="266688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_______________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01:40:14Z</dcterms:created>
  <dc:creator>Elizabeth Everett</dc:creator>
  <dc:description/>
  <dc:language>en-US</dc:language>
  <cp:lastModifiedBy>Elizabeth Everett</cp:lastModifiedBy>
  <dcterms:modified xsi:type="dcterms:W3CDTF">2009-04-23T09:29:36Z</dcterms:modified>
  <cp:revision>16</cp:revision>
  <dc:subject/>
  <dc:title>Western Dragon</dc:title>
</cp:coreProperties>
</file>