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AAA-08A8-4B88-8CB7-1C81CF9B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3CB-EDAB-4FA0-A250-C7B9B75F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6F8-3080-4995-BEA8-6A467921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26A-4E16-4250-AAD6-DE1B851A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281-B71C-485A-85B7-D71ACC62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A51-2F49-4177-A8A9-E158A93B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68A-F8FA-467D-AF04-11D2049B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D40-CC05-464C-A34B-BAEED274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2A7-BF5A-4C97-90C6-1D15977D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08F-44CE-4E6B-8885-B3AE76F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AA6-A8D0-49C2-92A2-A8BD02B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333-1178-42B6-A474-278CFFC2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5BB-B5B2-456F-B650-9AC83842E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Western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reated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rom parts of various creatures, having eagle's feet, two bat-like wings, lion's forelimbs, reptile’s head, fish's scales, antelope's horns and a serpentine form of spade tail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e any colou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ome can change colour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sually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reathe fir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uge hoards of gold and jewels hidden in their lairs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now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live more than 300 years; some are even immor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gic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ting dragons' hear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ive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 of understanding the language of animal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Rubb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' blood on skin protec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gainst stab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Oriental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Wate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Wi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made up of the body of a snake, scales of a carp, head of a camel, horns of a deer, the eyes of a hare, a neck like an iguana, belly of a frog, paws like a tigers, claws like an eagl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ion-type man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neck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hin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ound 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lue, black, white, red,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ree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r yellow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ot usually breath fire, nor do they fl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nfluenc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eather and water cours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ypes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lassified according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umber of claws. Most fiv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. Thre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Japanese. Four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, Indonesian or Korean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Oriental%20Drago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Fir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Earth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F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de-DE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 a long tail with small black spikes from 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ail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rso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 medium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ength snout with its nostrils rising slightly over the end of the snout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cal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re fairly hard and are difficult to penetrat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H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trong wings and can move very swiftly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Us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tail and claws to attack its prey but can also breathe fir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Are reddish in colour and live to around 150 years of 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They often live in caves and guard great treasure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Brea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ire to defend themselv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Germany and F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: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glaf, the firedrake killed by Beowu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mtg-firedrake-mai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w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legged dragon with two wings, a serpent’s head and the claws of an eagle. May have claws on the wings and a sting filled with poison on the end of its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isonous and corrupt breath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Quick and powerfu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ain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f central Europe and Sweden 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Marco Polo met and describe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ile crossing Central As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yver, Lindworm, Lindorm, Wouive, Vouiv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lindwurm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8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urobouros</a:t>
            </a:r>
            <a:r>
              <a:rPr b="1" lang="en-AU" sz="4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erpent endlessly eats his own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Constantly renew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ts skin and vigour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ymbolis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ontinued youth and eternity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oboros eats its own tail to sustain its life, in an eternal cycle of renewal. It is also an emblem of immortality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eep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cosmic waters under control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gyp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hoenicia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nd Gree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us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os, an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eboro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06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41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Drag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ll dragons less than 1.5 m high but very fierce and hostile to huma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poisonous blood and exhales deadly fiery breath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Switzer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 of Wilser who lived on 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Pilate (Switzerland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).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s eventually killed by an exiled towns member named Winckelried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who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ent up to the cave and fough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dragonet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nckelriedt saw an opening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strik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en the dragonet allowed him to get too clos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6220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4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Ic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ave wings but do not fly-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 rear up on its hind legs, using its tail to balanc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Look like large lizards and are between 5-20 metres long. Are usually while or light blue in colour with greyish scales and red eyes. Live to around 150 years of age. 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ond of treasure and often guard large hoard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xhales snow and hail rather than poison or fi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North America, Norway, Sweden, Finland and north-eastern regions of Russ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859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ragon-pictures-076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3657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556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l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6576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v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robo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g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stern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510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657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56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657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5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4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4343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1:40:14Z</dcterms:created>
  <dc:creator>Elizabeth Everett</dc:creator>
  <dc:description/>
  <dc:language>en-US</dc:language>
  <cp:lastModifiedBy>Elizabeth Everett</cp:lastModifiedBy>
  <dcterms:modified xsi:type="dcterms:W3CDTF">2009-04-23T09:29:36Z</dcterms:modified>
  <cp:revision>16</cp:revision>
  <dc:subject/>
  <dc:title>Western Dragon</dc:title>
</cp:coreProperties>
</file>